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76320"/>
            <a:ext cx="8991720" cy="914400"/>
          </a:xfrm>
          <a:prstGeom prst="rect">
            <a:avLst/>
          </a:prstGeom>
          <a:gradFill rotWithShape="0">
            <a:gsLst>
              <a:gs pos="0">
                <a:srgbClr val="892637"/>
              </a:gs>
              <a:gs pos="100000">
                <a:srgbClr val="e5405d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6320" y="6483240"/>
            <a:ext cx="8991720" cy="304920"/>
          </a:xfrm>
          <a:prstGeom prst="rect">
            <a:avLst/>
          </a:prstGeom>
          <a:solidFill>
            <a:srgbClr val="00968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    O    F    T    W    A    R    E         A    U    F        G    U    T          D    E     U     T      S     C     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7760" y="79200"/>
            <a:ext cx="2131920" cy="96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2209680" y="15238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Star Divsion Gmb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Sachsenfeld 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20097 Hambur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el. 040 / 23 646 60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Fax 040 / 23 646 55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6320" y="6483240"/>
            <a:ext cx="8991720" cy="304920"/>
          </a:xfrm>
          <a:prstGeom prst="rect">
            <a:avLst/>
          </a:prstGeom>
          <a:solidFill>
            <a:srgbClr val="00968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    O    F    T    W    A    R    E         A    U    F        G    U    T          D    E     U     T      S     C     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68454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585880" y="2033640"/>
            <a:ext cx="976320" cy="95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62200" y="1905120"/>
            <a:ext cx="5315040" cy="1647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266840"/>
            <a:ext cx="8972640" cy="74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685800"/>
            <a:ext cx="9131400" cy="380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662200" y="1290600"/>
            <a:ext cx="58672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23880" indent="-1523880">
              <a:lnSpc>
                <a:spcPct val="90000"/>
              </a:lnSpc>
              <a:spcBef>
                <a:spcPts val="2401"/>
              </a:spcBef>
              <a:buClr>
                <a:srgbClr val="ff0000"/>
              </a:buClr>
              <a:buSzPct val="200000"/>
              <a:buFont typeface="Wingdings"/>
              <a:buChar char=""/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Die Objektleiste paßt sich automatisch an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23880" indent="-1523880">
              <a:lnSpc>
                <a:spcPct val="90000"/>
              </a:lnSpc>
              <a:spcBef>
                <a:spcPts val="1440"/>
              </a:spcBef>
              <a:spcAft>
                <a:spcPts val="2401"/>
              </a:spcAft>
              <a:buClr>
                <a:srgbClr val="ff0000"/>
              </a:buClr>
              <a:buSzPct val="200000"/>
              <a:buFont typeface="Wingdings"/>
              <a:buChar char=""/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Das Objektmenü auf der rechten Maustaste paßt sich automatisch 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00240" y="3095640"/>
            <a:ext cx="1495440" cy="23814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209680" y="76320"/>
            <a:ext cx="6858000" cy="914400"/>
          </a:xfrm>
          <a:prstGeom prst="rect">
            <a:avLst/>
          </a:prstGeom>
          <a:gradFill rotWithShape="0">
            <a:gsLst>
              <a:gs pos="0">
                <a:srgbClr val="892637"/>
              </a:gs>
              <a:gs pos="100000">
                <a:srgbClr val="e5405d"/>
              </a:gs>
            </a:gsLst>
            <a:lin ang="5400000"/>
          </a:gra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ie Vorteile der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objektorientierten Bedien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647800" y="1523880"/>
            <a:ext cx="6191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6280" indent="-476280">
              <a:lnSpc>
                <a:spcPct val="90000"/>
              </a:lnSpc>
              <a:spcBef>
                <a:spcPts val="720"/>
              </a:spcBef>
              <a:spcAft>
                <a:spcPts val="2401"/>
              </a:spcAft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e Übersicht bleibt erhalten, auch in zukünftigen Programmversi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20"/>
              </a:spcBef>
              <a:spcAft>
                <a:spcPts val="2401"/>
              </a:spcAft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hnelles Arbeiten ist möglich, weil Funktionen nicht lange gesucht werden mü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20"/>
              </a:spcBef>
              <a:spcAft>
                <a:spcPts val="2401"/>
              </a:spcAft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e durchgängige Konzentration auf Ihre Textinhalte ist gegeben, weil StarWriter mitdenkt und den Anwender unterstütz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72880" y="1454040"/>
            <a:ext cx="203508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09680" y="76320"/>
            <a:ext cx="6858000" cy="914400"/>
          </a:xfrm>
          <a:prstGeom prst="rect">
            <a:avLst/>
          </a:prstGeom>
          <a:gradFill rotWithShape="0">
            <a:gsLst>
              <a:gs pos="0">
                <a:srgbClr val="892637"/>
              </a:gs>
              <a:gs pos="100000">
                <a:srgbClr val="e5405d"/>
              </a:gs>
            </a:gsLst>
            <a:lin ang="5400000"/>
          </a:gradFill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52388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2209680" y="76320"/>
            <a:ext cx="6858000" cy="914400"/>
          </a:xfrm>
          <a:prstGeom prst="rect">
            <a:avLst/>
          </a:prstGeom>
          <a:gradFill rotWithShape="0">
            <a:gsLst>
              <a:gs pos="0">
                <a:srgbClr val="892637"/>
              </a:gs>
              <a:gs pos="100000">
                <a:srgbClr val="e5405d"/>
              </a:gs>
            </a:gsLst>
            <a:lin ang="5400000"/>
          </a:gra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afd00"/>
                </a:solidFill>
                <a:latin typeface="Arial"/>
                <a:ea typeface="Arial"/>
              </a:rPr>
              <a:t>Im Bü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52388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77840" y="1415880"/>
            <a:ext cx="358920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2209680" y="76320"/>
            <a:ext cx="6858000" cy="914400"/>
          </a:xfrm>
          <a:prstGeom prst="rect">
            <a:avLst/>
          </a:prstGeom>
          <a:gradFill rotWithShape="0">
            <a:gsLst>
              <a:gs pos="0">
                <a:srgbClr val="892637"/>
              </a:gs>
              <a:gs pos="100000">
                <a:srgbClr val="e5405d"/>
              </a:gs>
            </a:gsLst>
            <a:lin ang="5400000"/>
          </a:gra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tarWriter im Büro: Spart Zeit, Mühe und macht Komplexes einf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590920" y="1481040"/>
            <a:ext cx="64292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6280" indent="-476280">
              <a:lnSpc>
                <a:spcPct val="90000"/>
              </a:lnSpc>
              <a:spcBef>
                <a:spcPts val="2401"/>
              </a:spcBef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atenbankzugriff auf dBase, Excel und andere Form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2401"/>
              </a:spcBef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chnen im Text mit allen kaufmännischen Funktionen - auch in Tabelle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2401"/>
              </a:spcBef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matische Textbausteine und Makrorecorder für wiederkehrende Aufgab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2401"/>
              </a:spcBef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ynamische Numerierungslis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52360" y="1473120"/>
            <a:ext cx="1454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2209680" y="76320"/>
            <a:ext cx="6858000" cy="914400"/>
          </a:xfrm>
          <a:prstGeom prst="rect">
            <a:avLst/>
          </a:prstGeom>
          <a:gradFill rotWithShape="0">
            <a:gsLst>
              <a:gs pos="0">
                <a:srgbClr val="892637"/>
              </a:gs>
              <a:gs pos="100000">
                <a:srgbClr val="e5405d"/>
              </a:gs>
            </a:gsLst>
            <a:lin ang="5400000"/>
          </a:gra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tarWriter im Büro: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Aufrufen, schreiben, druc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590920" y="1481040"/>
            <a:ext cx="64292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Zahlreiche vorgefertige Dokumentvorlag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4300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ax-Vorlage , interne Me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4300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lefonnotiz, Kurzbrief, Adreßlis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4300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ormulare, Wochen oder Tagespl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2401"/>
              </a:spcBef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kumentvorlagen bieten echte Lösung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4300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eichen-, Absatz,- Seiten- und Rahmenvorlagen zur Formatieru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4300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telligentes Regelwerk zur Steueru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4300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kros in Menüs, Rahmen und Baustein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52360" y="1473120"/>
            <a:ext cx="1454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2209680" y="76320"/>
            <a:ext cx="6858000" cy="914400"/>
          </a:xfrm>
          <a:prstGeom prst="rect">
            <a:avLst/>
          </a:prstGeom>
          <a:gradFill rotWithShape="0">
            <a:gsLst>
              <a:gs pos="0">
                <a:srgbClr val="892637"/>
              </a:gs>
              <a:gs pos="100000">
                <a:srgbClr val="e5405d"/>
              </a:gs>
            </a:gsLst>
            <a:lin ang="5400000"/>
          </a:gra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tarWriter ist genau so,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wie Sie wo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590920" y="1481040"/>
            <a:ext cx="64292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6280" indent="-476280">
              <a:lnSpc>
                <a:spcPct val="90000"/>
              </a:lnSpc>
              <a:spcBef>
                <a:spcPts val="2401"/>
              </a:spcBef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passung aller Vorlagen an Ihre Anforderu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2401"/>
              </a:spcBef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onfigurierung der Funktionslei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2401"/>
              </a:spcBef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onfigurierung des Menü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2401"/>
              </a:spcBef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onfigurierung der Tastaturbeleg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52360" y="1473120"/>
            <a:ext cx="1454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2590920" y="1523880"/>
            <a:ext cx="624852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6280" indent="-476280">
              <a:lnSpc>
                <a:spcPct val="90000"/>
              </a:lnSpc>
              <a:spcBef>
                <a:spcPts val="2401"/>
              </a:spcBef>
              <a:spcAft>
                <a:spcPts val="2401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 einer Tabel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2401"/>
              </a:spcBef>
              <a:spcAft>
                <a:spcPts val="2401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öffnet sich mit der Taste F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209680" y="76320"/>
            <a:ext cx="6858000" cy="914400"/>
          </a:xfrm>
          <a:prstGeom prst="rect">
            <a:avLst/>
          </a:prstGeom>
          <a:gradFill rotWithShape="0">
            <a:gsLst>
              <a:gs pos="0">
                <a:srgbClr val="892637"/>
              </a:gs>
              <a:gs pos="100000">
                <a:srgbClr val="e5405d"/>
              </a:gs>
            </a:gsLst>
            <a:lin ang="5400000"/>
          </a:gra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afd00"/>
                </a:solidFill>
                <a:latin typeface="Arial"/>
                <a:ea typeface="Arial"/>
              </a:rPr>
              <a:t>Ein Highligh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47760" y="1585800"/>
            <a:ext cx="163368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2590920" y="1523880"/>
            <a:ext cx="624852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6280" indent="-476280">
              <a:lnSpc>
                <a:spcPct val="90000"/>
              </a:lnSpc>
              <a:spcBef>
                <a:spcPts val="2401"/>
              </a:spcBef>
              <a:spcAft>
                <a:spcPts val="2401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 einer Tabel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2401"/>
              </a:spcBef>
              <a:spcAft>
                <a:spcPts val="2401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öffnet sich mit der Taste F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2401"/>
              </a:spcBef>
              <a:spcAft>
                <a:spcPts val="2401"/>
              </a:spcAf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eine Kalkulationsleiste wie in Exc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209680" y="76320"/>
            <a:ext cx="6858000" cy="914400"/>
          </a:xfrm>
          <a:prstGeom prst="rect">
            <a:avLst/>
          </a:prstGeom>
          <a:gradFill rotWithShape="0">
            <a:gsLst>
              <a:gs pos="0">
                <a:srgbClr val="892637"/>
              </a:gs>
              <a:gs pos="100000">
                <a:srgbClr val="e5405d"/>
              </a:gs>
            </a:gsLst>
            <a:lin ang="5400000"/>
          </a:gra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afd00"/>
                </a:solidFill>
                <a:latin typeface="Arial"/>
                <a:ea typeface="Arial"/>
              </a:rPr>
              <a:t>Ein Highligh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47760" y="1585800"/>
            <a:ext cx="1633680" cy="15638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2681280" y="4662360"/>
            <a:ext cx="593424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0680" y="412920"/>
            <a:ext cx="8694720" cy="4692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12760" y="5562720"/>
            <a:ext cx="85503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28600" y="51814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6280" indent="-476280" algn="ctr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SzPct val="120000"/>
              <a:buFont typeface="Wingdings"/>
              <a:buChar char=" 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Die objektorientierte Textverarbeit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 algn="ctr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SzPct val="120000"/>
              <a:buFont typeface="Wingdings"/>
              <a:buChar char=" "/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für den universellen Einsat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6320" y="6483240"/>
            <a:ext cx="8991720" cy="304920"/>
          </a:xfrm>
          <a:prstGeom prst="rect">
            <a:avLst/>
          </a:prstGeom>
          <a:solidFill>
            <a:srgbClr val="00968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    O    F    T    W    A    R    E         A    U    F        G    U    T          D    E     U     T      S     C     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2209680" y="76320"/>
            <a:ext cx="6858000" cy="914400"/>
          </a:xfrm>
          <a:prstGeom prst="rect">
            <a:avLst/>
          </a:prstGeom>
          <a:gradFill rotWithShape="0">
            <a:gsLst>
              <a:gs pos="0">
                <a:srgbClr val="892637"/>
              </a:gs>
              <a:gs pos="100000">
                <a:srgbClr val="e5405d"/>
              </a:gs>
            </a:gsLst>
            <a:lin ang="5400000"/>
          </a:gra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afd00"/>
                </a:solidFill>
                <a:latin typeface="Arial"/>
                <a:ea typeface="Arial"/>
              </a:rPr>
              <a:t>Ein Beispi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352680" y="1295280"/>
            <a:ext cx="5486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Direkter Datenbankzugriff und Serienbriefe mit Selektions-bedingungen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52360" y="1473120"/>
            <a:ext cx="1454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6845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128520" y="5176800"/>
            <a:ext cx="365292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3000" indent="-952560">
              <a:lnSpc>
                <a:spcPct val="90000"/>
              </a:lnSpc>
              <a:spcBef>
                <a:spcPts val="2401"/>
              </a:spcBef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Filter </a:t>
            </a:r>
            <a:r>
              <a:rPr b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2209680" y="76320"/>
            <a:ext cx="6858000" cy="914400"/>
          </a:xfrm>
          <a:prstGeom prst="rect">
            <a:avLst/>
          </a:prstGeom>
          <a:gradFill rotWithShape="0">
            <a:gsLst>
              <a:gs pos="0">
                <a:srgbClr val="892637"/>
              </a:gs>
              <a:gs pos="100000">
                <a:srgbClr val="e5405d"/>
              </a:gs>
            </a:gsLst>
            <a:lin ang="5400000"/>
          </a:gradFill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52388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209680" y="76320"/>
            <a:ext cx="6858000" cy="914400"/>
          </a:xfrm>
          <a:prstGeom prst="rect">
            <a:avLst/>
          </a:prstGeom>
          <a:gradFill rotWithShape="0">
            <a:gsLst>
              <a:gs pos="0">
                <a:srgbClr val="892637"/>
              </a:gs>
              <a:gs pos="100000">
                <a:srgbClr val="e5405d"/>
              </a:gs>
            </a:gsLst>
            <a:lin ang="5400000"/>
          </a:gra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Arial"/>
                <a:ea typeface="Arial"/>
              </a:rPr>
              <a:t>Für Gestaltu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7480" y="1522440"/>
            <a:ext cx="35877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09680" y="76320"/>
            <a:ext cx="6858000" cy="914400"/>
          </a:xfrm>
          <a:prstGeom prst="rect">
            <a:avLst/>
          </a:prstGeom>
          <a:gradFill rotWithShape="0">
            <a:gsLst>
              <a:gs pos="0">
                <a:srgbClr val="892637"/>
              </a:gs>
              <a:gs pos="100000">
                <a:srgbClr val="e5405d"/>
              </a:gs>
            </a:gsLst>
            <a:lin ang="5400000"/>
          </a:gra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Gestaltung wie sie sein soll,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leistungsstark und einfach zu bedi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28600" y="1446120"/>
            <a:ext cx="1560600" cy="14590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2666880" y="1523880"/>
            <a:ext cx="6324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6280" indent="-476280">
              <a:lnSpc>
                <a:spcPct val="90000"/>
              </a:lnSpc>
              <a:spcBef>
                <a:spcPts val="2401"/>
              </a:spcBef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chtes WYSIWYG, so haben Sie immer die volle Kontrolle über das Aussehen Ihres Tex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2401"/>
              </a:spcBef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as Rahmenkonzept bietet Gestaltungen wie in einem DTP-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2401"/>
              </a:spcBef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bellen machen auch komplexe Listen und Aufzählungen einf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2401"/>
              </a:spcBef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 Umrandungen, Hintergrund, Schatten und Farben gestalten Sie wie ein Prof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2209680" y="76320"/>
            <a:ext cx="6858000" cy="914400"/>
          </a:xfrm>
          <a:prstGeom prst="rect">
            <a:avLst/>
          </a:prstGeom>
          <a:gradFill rotWithShape="0">
            <a:gsLst>
              <a:gs pos="0">
                <a:srgbClr val="892637"/>
              </a:gs>
              <a:gs pos="100000">
                <a:srgbClr val="e5405d"/>
              </a:gs>
            </a:gsLst>
            <a:lin ang="5400000"/>
          </a:gra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afd00"/>
                </a:solidFill>
                <a:latin typeface="Arial"/>
                <a:ea typeface="Arial"/>
              </a:rPr>
              <a:t>Ein Highligh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19040" y="1623960"/>
            <a:ext cx="1557360" cy="14889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2590920" y="1523880"/>
            <a:ext cx="629136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2401"/>
              </a:spcBef>
              <a:spcAft>
                <a:spcPts val="2401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im Grafikimport haben sie nicht nur Zugriff au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2401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PS-, PCX-, BMP-, WMF- und CGM- sondern auch au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590920" y="1523880"/>
            <a:ext cx="629136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2401"/>
              </a:spcBef>
              <a:spcAft>
                <a:spcPts val="2401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im Grafikimport haben sie nicht nur Zugriff au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2401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PS-, PCX-, BMP-, WMF- und CGM- sondern auch au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01"/>
              </a:spcBef>
              <a:spcAft>
                <a:spcPts val="2401"/>
              </a:spcAf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iff-Formate, dem Standard für gescannte Grafik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209680" y="76320"/>
            <a:ext cx="6858000" cy="914400"/>
          </a:xfrm>
          <a:prstGeom prst="rect">
            <a:avLst/>
          </a:prstGeom>
          <a:gradFill rotWithShape="0">
            <a:gsLst>
              <a:gs pos="0">
                <a:srgbClr val="892637"/>
              </a:gs>
              <a:gs pos="100000">
                <a:srgbClr val="e5405d"/>
              </a:gs>
            </a:gsLst>
            <a:lin ang="5400000"/>
          </a:gra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afd00"/>
                </a:solidFill>
                <a:latin typeface="Arial"/>
                <a:ea typeface="Arial"/>
              </a:rPr>
              <a:t>Ein Highligh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19040" y="1623960"/>
            <a:ext cx="1557360" cy="14889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09680" y="3746520"/>
            <a:ext cx="159876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2286000" y="76320"/>
            <a:ext cx="6095880" cy="914400"/>
          </a:xfrm>
          <a:prstGeom prst="rect">
            <a:avLst/>
          </a:prstGeom>
          <a:gradFill rotWithShape="0">
            <a:gsLst>
              <a:gs pos="0">
                <a:srgbClr val="892637"/>
              </a:gs>
              <a:gs pos="100000">
                <a:srgbClr val="e5405d"/>
              </a:gs>
            </a:gsLst>
            <a:lin ang="5400000"/>
          </a:gra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afd00"/>
                </a:solidFill>
                <a:latin typeface="Arial"/>
                <a:ea typeface="Arial"/>
              </a:rPr>
              <a:t>Ein Beispi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8120" y="1295280"/>
            <a:ext cx="5943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Rahmen und Grafikeinbindung ermöglichen anspruchsvolle Layouts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28600" y="1446120"/>
            <a:ext cx="156060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68454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900080" y="2371680"/>
            <a:ext cx="6838920" cy="752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48040" y="3048120"/>
            <a:ext cx="5514840" cy="89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00160" y="2390760"/>
            <a:ext cx="1547640" cy="14050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701120" y="3281400"/>
            <a:ext cx="1114560" cy="6094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776240" y="2319480"/>
            <a:ext cx="6181560" cy="14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52560" indent="-952560">
              <a:lnSpc>
                <a:spcPct val="90000"/>
              </a:lnSpc>
              <a:spcBef>
                <a:spcPts val="2401"/>
              </a:spcBef>
              <a:buClr>
                <a:srgbClr val="ff0000"/>
              </a:buClr>
              <a:buSzPct val="200000"/>
              <a:buFont typeface="Wingdings"/>
              <a:buChar char=""/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Grafikimport: hier ein Scan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ines Bildes als Tiff-Date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buClr>
                <a:srgbClr val="ff0000"/>
              </a:buClr>
              <a:buSzPct val="200000"/>
              <a:buFont typeface="Wingdings"/>
              <a:buChar char=" "/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in Rahmen in einer Tabelle </a:t>
            </a:r>
            <a:r>
              <a:rPr b="1" lang="en-US" sz="5400" spc="-1" strike="noStrike">
                <a:solidFill>
                  <a:srgbClr val="ff0000"/>
                </a:solidFill>
                <a:latin typeface="Wingdings"/>
                <a:ea typeface="Wingdings"/>
              </a:rPr>
              <a:t>➔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2209680" y="76320"/>
            <a:ext cx="6858000" cy="914400"/>
          </a:xfrm>
          <a:prstGeom prst="rect">
            <a:avLst/>
          </a:prstGeom>
          <a:gradFill rotWithShape="0">
            <a:gsLst>
              <a:gs pos="0">
                <a:srgbClr val="892637"/>
              </a:gs>
              <a:gs pos="100000">
                <a:srgbClr val="e5405d"/>
              </a:gs>
            </a:gsLst>
            <a:lin ang="5400000"/>
          </a:gra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nd das bedeutet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objektorientierte Textverarb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666880" y="1523880"/>
            <a:ext cx="61722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 stehen immer genau die Funktionen zur Verfügung, die gerade benötigt wer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2401"/>
              </a:spcBef>
              <a:spcAft>
                <a:spcPts val="2401"/>
              </a:spcAft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e Symbole der Objektleiste passen sich an das ausgewählte Objekt 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e Objektmenüs der rechten Maustaste bieten die Funktionen, die zum ausgewählten Objekt p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72880" y="1454040"/>
            <a:ext cx="203508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2209680" y="76320"/>
            <a:ext cx="6858000" cy="914400"/>
          </a:xfrm>
          <a:prstGeom prst="rect">
            <a:avLst/>
          </a:prstGeom>
          <a:gradFill rotWithShape="0">
            <a:gsLst>
              <a:gs pos="0">
                <a:srgbClr val="892637"/>
              </a:gs>
              <a:gs pos="100000">
                <a:srgbClr val="e5405d"/>
              </a:gs>
            </a:gsLst>
            <a:lin ang="5400000"/>
          </a:gra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afd00"/>
                </a:solidFill>
                <a:latin typeface="Arial"/>
                <a:ea typeface="Arial"/>
              </a:rPr>
              <a:t>Für Autor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52388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58840" y="1417680"/>
            <a:ext cx="358920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209680" y="76320"/>
            <a:ext cx="6858000" cy="914400"/>
          </a:xfrm>
          <a:prstGeom prst="rect">
            <a:avLst/>
          </a:prstGeom>
          <a:gradFill rotWithShape="0">
            <a:gsLst>
              <a:gs pos="0">
                <a:srgbClr val="892637"/>
              </a:gs>
              <a:gs pos="100000">
                <a:srgbClr val="e5405d"/>
              </a:gs>
            </a:gsLst>
            <a:lin ang="5400000"/>
          </a:gra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Je mehr Sie schreiben,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esto mehr spricht für Star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209680" y="152388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6280" indent="-476280">
              <a:lnSpc>
                <a:spcPct val="90000"/>
              </a:lnSpc>
              <a:spcBef>
                <a:spcPts val="2401"/>
              </a:spcBef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ußnoten mit intelligenter Verwalt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2401"/>
              </a:spcBef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uerverweise mit Kapitelangab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2401"/>
              </a:spcBef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meleditor für komplexe Ausdrüc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2401"/>
              </a:spcBef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matische Verzeichnis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2401"/>
              </a:spcBef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eldbefehle vom Datum bis zur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2401"/>
              </a:spcBef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kumentmanager mit Konfigurati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2401"/>
              </a:spcBef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d, und, und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28600" y="1494000"/>
            <a:ext cx="133344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2590920" y="1523880"/>
            <a:ext cx="6291360" cy="43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2401"/>
              </a:spcBef>
              <a:spcAft>
                <a:spcPts val="2401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e Erstellung eines Inhalts-, Stichwort-, oder frei definierbaren Benutzer-Verzeichnisses erfolgt mit wenigen Handgriffen, Ergebn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h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Grundla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3000" indent="-38088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 Bestimmung der Untersuch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14680" indent="-38088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.1 Zielsetz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14680" indent="-38088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.2 Reichweite der Untersuch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14680" indent="-38088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.3 Bestimmung weiterer Schwerpunk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3000" indent="-38088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2 Modell der Untersuch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14680" indent="-38088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2.1 Definition des Untersuchungsmod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14680" indent="-38088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2.2 Anspruch an das Untersuchungsmod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14680" indent="-38088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209680" y="76320"/>
            <a:ext cx="6858000" cy="914400"/>
          </a:xfrm>
          <a:prstGeom prst="rect">
            <a:avLst/>
          </a:prstGeom>
          <a:gradFill rotWithShape="0">
            <a:gsLst>
              <a:gs pos="0">
                <a:srgbClr val="892637"/>
              </a:gs>
              <a:gs pos="100000">
                <a:srgbClr val="e5405d"/>
              </a:gs>
            </a:gsLst>
            <a:lin ang="5400000"/>
          </a:gra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afd00"/>
                </a:solidFill>
                <a:latin typeface="Arial"/>
                <a:ea typeface="Arial"/>
              </a:rPr>
              <a:t>Ein Highligh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80960" y="1566720"/>
            <a:ext cx="150336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2590920" y="1523880"/>
            <a:ext cx="6291360" cy="43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2401"/>
              </a:spcBef>
              <a:spcAft>
                <a:spcPts val="2401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e Erstellung eines Inhalts-, Stichwort-, oder frei definierbaren Benutzer-Verzeichnisses erfolgt mit wenigen Handgriffen, Ergebn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h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Grundla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3000" indent="-38088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 Bestimmung der Untersuch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14680" indent="-38088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.1 Zielsetz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14680" indent="-38088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.2 Reichweite der Untersuch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14680" indent="-38088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.3 Bestimmung weiterer Schwerpunk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3000" indent="-38088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2 Modell der Untersuch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14680" indent="-38088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2.1 Definition des Untersuchungsmod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14680" indent="-38088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2.2 Anspruch an das Untersuchungsmod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14680" indent="-38088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2209680" y="76320"/>
            <a:ext cx="6858000" cy="914400"/>
          </a:xfrm>
          <a:prstGeom prst="rect">
            <a:avLst/>
          </a:prstGeom>
          <a:gradFill rotWithShape="0">
            <a:gsLst>
              <a:gs pos="0">
                <a:srgbClr val="892637"/>
              </a:gs>
              <a:gs pos="100000">
                <a:srgbClr val="e5405d"/>
              </a:gs>
            </a:gsLst>
            <a:lin ang="5400000"/>
          </a:gra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afd00"/>
                </a:solidFill>
                <a:latin typeface="Arial"/>
                <a:ea typeface="Arial"/>
              </a:rPr>
              <a:t>Ein Highligh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34880" y="3154320"/>
            <a:ext cx="2179800" cy="345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0" spc="-1" strike="noStrike">
                <a:solidFill>
                  <a:srgbClr val="fafd00"/>
                </a:solidFill>
                <a:latin typeface="Wingdings"/>
                <a:ea typeface="Wingdings"/>
              </a:rPr>
              <a:t>✓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80960" y="1566720"/>
            <a:ext cx="150336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2286000" y="76320"/>
            <a:ext cx="6095880" cy="914400"/>
          </a:xfrm>
          <a:prstGeom prst="rect">
            <a:avLst/>
          </a:prstGeom>
          <a:gradFill rotWithShape="0">
            <a:gsLst>
              <a:gs pos="0">
                <a:srgbClr val="892637"/>
              </a:gs>
              <a:gs pos="100000">
                <a:srgbClr val="e5405d"/>
              </a:gs>
            </a:gsLst>
            <a:lin ang="5400000"/>
          </a:gra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afd00"/>
                </a:solidFill>
                <a:latin typeface="Arial"/>
                <a:ea typeface="Arial"/>
              </a:rPr>
              <a:t>Ein Beispi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8120" y="1295280"/>
            <a:ext cx="5943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Querverweis und Fußnote in einem umfangreichen Text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28600" y="1494000"/>
            <a:ext cx="133344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68454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366840" y="1754280"/>
            <a:ext cx="843444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Verwe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mit Seit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und Kapitel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048440" indent="-4762440">
              <a:lnSpc>
                <a:spcPct val="100000"/>
              </a:lnSpc>
            </a:pPr>
            <a:r>
              <a:rPr b="1" lang="en-US" sz="5400" spc="-1" strike="noStrike">
                <a:solidFill>
                  <a:srgbClr val="ff0000"/>
                </a:solidFill>
                <a:latin typeface="Wingdings"/>
                <a:ea typeface="Wingdings"/>
              </a:rPr>
              <a:t>⇧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Fußnote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                </a:t>
            </a:r>
            <a:r>
              <a:rPr b="1" lang="en-US" sz="5400" spc="-1" strike="noStrike">
                <a:solidFill>
                  <a:srgbClr val="ff0000"/>
                </a:solidFill>
                <a:latin typeface="Wingdings"/>
                <a:ea typeface="Wingdings"/>
              </a:rPr>
              <a:t>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ext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                            </a:t>
            </a:r>
            <a:r>
              <a:rPr b="1" lang="en-US" sz="5400" spc="-1" strike="noStrike">
                <a:solidFill>
                  <a:srgbClr val="ff0000"/>
                </a:solidFill>
                <a:latin typeface="Wingdings"/>
                <a:ea typeface="Wingdings"/>
              </a:rPr>
              <a:t>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04920" y="152388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 Division ist Marktführer im Bereich DOS-Textverarbeitung in Deutsch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r StarWriter ist auf allen gängigen Betriebssystemen zuha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209680" y="76320"/>
            <a:ext cx="6858000" cy="914400"/>
          </a:xfrm>
          <a:prstGeom prst="rect">
            <a:avLst/>
          </a:prstGeom>
          <a:gradFill rotWithShape="0">
            <a:gsLst>
              <a:gs pos="0">
                <a:srgbClr val="892637"/>
              </a:gs>
              <a:gs pos="100000">
                <a:srgbClr val="e5405d"/>
              </a:gs>
            </a:gsLst>
            <a:lin ang="5400000"/>
          </a:gra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afd00"/>
                </a:solidFill>
                <a:latin typeface="Arial"/>
                <a:ea typeface="Arial"/>
              </a:rPr>
              <a:t>Und sonst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04920" y="152388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 Division ist Marktführer im Bereich DOS-Textverarbeitung in Deutsch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r StarWriter ist auf allen gängigen Betriebssystemen zuhause, z.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 algn="ctr">
              <a:lnSpc>
                <a:spcPct val="90000"/>
              </a:lnSpc>
              <a:spcBef>
                <a:spcPts val="2880"/>
              </a:spcBef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  </a:t>
            </a:r>
            <a:r>
              <a:rPr b="1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Windows 3.1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Windows NT (Intel / Alpha)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Macintosh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Unix-Variant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209680" y="76320"/>
            <a:ext cx="6858000" cy="914400"/>
          </a:xfrm>
          <a:prstGeom prst="rect">
            <a:avLst/>
          </a:prstGeom>
          <a:gradFill rotWithShape="0">
            <a:gsLst>
              <a:gs pos="0">
                <a:srgbClr val="892637"/>
              </a:gs>
              <a:gs pos="100000">
                <a:srgbClr val="e5405d"/>
              </a:gs>
            </a:gsLst>
            <a:lin ang="5400000"/>
          </a:gra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afd00"/>
                </a:solidFill>
                <a:latin typeface="Arial"/>
                <a:ea typeface="Arial"/>
              </a:rPr>
              <a:t>Und sonst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76320" y="6483240"/>
            <a:ext cx="8991720" cy="304920"/>
          </a:xfrm>
          <a:prstGeom prst="rect">
            <a:avLst/>
          </a:prstGeom>
          <a:solidFill>
            <a:srgbClr val="00968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    O    F    T    W    A    R    E         A    U    F        G    U    T          D    E     U     T      S     C     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09680" y="1509840"/>
            <a:ext cx="1465200" cy="1386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2209680" y="76320"/>
            <a:ext cx="6858000" cy="914400"/>
          </a:xfrm>
          <a:prstGeom prst="rect">
            <a:avLst/>
          </a:prstGeom>
          <a:gradFill rotWithShape="0">
            <a:gsLst>
              <a:gs pos="0">
                <a:srgbClr val="892637"/>
              </a:gs>
              <a:gs pos="100000">
                <a:srgbClr val="e5405d"/>
              </a:gs>
            </a:gsLst>
            <a:lin ang="5400000"/>
          </a:gra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Ein Klick auf die rechte Maustaste reicht,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nd Sie kö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362320" y="1523880"/>
            <a:ext cx="6477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xt gestal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bellen formatier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ahmen und Grafiken bearbei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kteigenschaften verände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09680" y="76320"/>
            <a:ext cx="6858000" cy="914400"/>
          </a:xfrm>
          <a:prstGeom prst="rect">
            <a:avLst/>
          </a:prstGeom>
          <a:gradFill rotWithShape="0">
            <a:gsLst>
              <a:gs pos="0">
                <a:srgbClr val="892637"/>
              </a:gs>
              <a:gs pos="100000">
                <a:srgbClr val="e5405d"/>
              </a:gs>
            </a:gsLst>
            <a:lin ang="5400000"/>
          </a:gra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afd00"/>
                </a:solidFill>
                <a:latin typeface="Arial"/>
                <a:ea typeface="Arial"/>
              </a:rPr>
              <a:t>Und sonst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52388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 Division ist Marktführer im Bereich DOS-Textverarbeitung in Deutsch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r StarWriter ist auf allen gängigen Betriebssystemen zuha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d der kostenlose Service durch das preisgekrön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2209680" y="76320"/>
            <a:ext cx="6858000" cy="914400"/>
          </a:xfrm>
          <a:prstGeom prst="rect">
            <a:avLst/>
          </a:prstGeom>
          <a:gradFill rotWithShape="0">
            <a:gsLst>
              <a:gs pos="0">
                <a:srgbClr val="892637"/>
              </a:gs>
              <a:gs pos="100000">
                <a:srgbClr val="e5405d"/>
              </a:gs>
            </a:gsLst>
            <a:lin ang="5400000"/>
          </a:gra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afd00"/>
                </a:solidFill>
                <a:latin typeface="Arial"/>
                <a:ea typeface="Arial"/>
              </a:rPr>
              <a:t>Und sonst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52388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 Division ist Marktführer im Bereich DOS-Textverarbeitung in Deutsch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r StarWriter ist auf allen gängigen Betriebssystemen zuha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d der kostenlose Service durch das preisgekrön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573280" y="3732120"/>
            <a:ext cx="283680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2209680" y="76320"/>
            <a:ext cx="6858000" cy="914400"/>
          </a:xfrm>
          <a:prstGeom prst="rect">
            <a:avLst/>
          </a:prstGeom>
          <a:gradFill rotWithShape="0">
            <a:gsLst>
              <a:gs pos="0">
                <a:srgbClr val="892637"/>
              </a:gs>
              <a:gs pos="100000">
                <a:srgbClr val="e5405d"/>
              </a:gs>
            </a:gsLst>
            <a:lin ang="5400000"/>
          </a:gra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afd00"/>
                </a:solidFill>
                <a:latin typeface="Arial"/>
                <a:ea typeface="Arial"/>
              </a:rPr>
              <a:t>Und sonst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52388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 Division ist Marktführer im Bereich DOS-Textverarbeitung in Deutsch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r StarWriter ist auf allen gängigen Betriebssystemen zuha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d der kostenlose Service durch das preisgekrön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7045200" y="3718080"/>
            <a:ext cx="1301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Aktuel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6324480" y="4038480"/>
            <a:ext cx="2765520" cy="27655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2573280" y="3732120"/>
            <a:ext cx="283680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2209680" y="76320"/>
            <a:ext cx="6858000" cy="914400"/>
          </a:xfrm>
          <a:prstGeom prst="rect">
            <a:avLst/>
          </a:prstGeom>
          <a:gradFill rotWithShape="0">
            <a:gsLst>
              <a:gs pos="0">
                <a:srgbClr val="892637"/>
              </a:gs>
              <a:gs pos="100000">
                <a:srgbClr val="e5405d"/>
              </a:gs>
            </a:gsLst>
            <a:lin ang="5400000"/>
          </a:gra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  <a:ea typeface="Arial"/>
              </a:rPr>
              <a:t>StarWriter für OS/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06668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Erhältlich direkt bei Star Division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el. 040 / 23 646 60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Fax 040 / 23 646 55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343400" y="3200400"/>
            <a:ext cx="4721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2209680" y="76320"/>
            <a:ext cx="6858000" cy="914400"/>
          </a:xfrm>
          <a:prstGeom prst="rect">
            <a:avLst/>
          </a:prstGeom>
          <a:gradFill rotWithShape="0">
            <a:gsLst>
              <a:gs pos="0">
                <a:srgbClr val="892637"/>
              </a:gs>
              <a:gs pos="100000">
                <a:srgbClr val="e5405d"/>
              </a:gs>
            </a:gsLst>
            <a:lin ang="5400000"/>
          </a:gra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  <a:ea typeface="Arial"/>
              </a:rPr>
              <a:t>StarWriter für OS/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06668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Sie können auch die auf der C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vorhandene Version freischalten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el. 00 45 / 48 10 10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27000" y="3117960"/>
            <a:ext cx="4392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76280" y="3462480"/>
            <a:ext cx="1428840" cy="22287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2209680" y="76320"/>
            <a:ext cx="6858000" cy="914400"/>
          </a:xfrm>
          <a:prstGeom prst="rect">
            <a:avLst/>
          </a:prstGeom>
          <a:gradFill rotWithShape="0">
            <a:gsLst>
              <a:gs pos="0">
                <a:srgbClr val="892637"/>
              </a:gs>
              <a:gs pos="100000">
                <a:srgbClr val="e5405d"/>
              </a:gs>
            </a:gsLst>
            <a:lin ang="5400000"/>
          </a:gra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Ein Klick auf die rechte Maustaste reicht,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nd Sie könn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362320" y="1523880"/>
            <a:ext cx="6477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xt gestal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bellen formatier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ahmen und Grafiken bearbei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kteigenschaften verände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220000"/>
              </a:lnSpc>
              <a:spcBef>
                <a:spcPts val="720"/>
              </a:spcBef>
              <a:buClr>
                <a:srgbClr val="fafd00"/>
              </a:buClr>
              <a:buSzPct val="400000"/>
              <a:buFont typeface="Wingdings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220000"/>
              </a:lnSpc>
              <a:spcBef>
                <a:spcPts val="720"/>
              </a:spcBef>
              <a:buClr>
                <a:srgbClr val="ff0000"/>
              </a:buClr>
              <a:buSzPct val="300000"/>
              <a:buFont typeface="Wingdings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 Objektmenüs, direkt im Tex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1523880"/>
            <a:ext cx="6781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004840" y="4154400"/>
            <a:ext cx="126828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⇦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09680" y="1509840"/>
            <a:ext cx="146520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23960" y="4338720"/>
            <a:ext cx="1143000" cy="1709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336680" y="2914560"/>
            <a:ext cx="534960" cy="7812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790560" y="1571760"/>
            <a:ext cx="1076400" cy="628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2209680" y="76320"/>
            <a:ext cx="6858000" cy="914400"/>
          </a:xfrm>
          <a:prstGeom prst="rect">
            <a:avLst/>
          </a:prstGeom>
          <a:gradFill rotWithShape="0">
            <a:gsLst>
              <a:gs pos="0">
                <a:srgbClr val="892637"/>
              </a:gs>
              <a:gs pos="100000">
                <a:srgbClr val="e5405d"/>
              </a:gs>
            </a:gsLst>
            <a:lin ang="5400000"/>
          </a:gra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ie rechte Maustaste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wird auch benutzt, 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286000" y="1523880"/>
            <a:ext cx="6553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6280" indent="-476280">
              <a:lnSpc>
                <a:spcPct val="90000"/>
              </a:lnSpc>
              <a:spcBef>
                <a:spcPts val="2401"/>
              </a:spcBef>
              <a:spcAft>
                <a:spcPts val="2401"/>
              </a:spcAft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as Maßsystem in der Dokumentleiste zu bestim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2401"/>
              </a:spcBef>
              <a:spcAft>
                <a:spcPts val="2401"/>
              </a:spcAft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e Tabulatorart in der Tabulatorleiste festzu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2401"/>
              </a:spcBef>
              <a:spcAft>
                <a:spcPts val="2401"/>
              </a:spcAft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n Maßstab direkt aus der Statuszeile festzu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2209680" y="76320"/>
            <a:ext cx="6858000" cy="914400"/>
          </a:xfrm>
          <a:prstGeom prst="rect">
            <a:avLst/>
          </a:prstGeom>
          <a:gradFill rotWithShape="0">
            <a:gsLst>
              <a:gs pos="0">
                <a:srgbClr val="892637"/>
              </a:gs>
              <a:gs pos="100000">
                <a:srgbClr val="e5405d"/>
              </a:gs>
            </a:gsLst>
            <a:lin ang="5400000"/>
          </a:gra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ie kontextsensitve Objektleiste paßt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ich an die aktuelle Arbeitssituation 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2209680" y="76320"/>
            <a:ext cx="6858000" cy="914400"/>
          </a:xfrm>
          <a:prstGeom prst="rect">
            <a:avLst/>
          </a:prstGeom>
          <a:gradFill rotWithShape="0">
            <a:gsLst>
              <a:gs pos="0">
                <a:srgbClr val="892637"/>
              </a:gs>
              <a:gs pos="100000">
                <a:srgbClr val="e5405d"/>
              </a:gs>
            </a:gsLst>
            <a:lin ang="5400000"/>
          </a:gra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ie kontextsensitve Objektleiste paßt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ich an die aktuelle Arbeitssituation 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52388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6280" indent="-476280">
              <a:lnSpc>
                <a:spcPct val="90000"/>
              </a:lnSpc>
              <a:spcBef>
                <a:spcPts val="2401"/>
              </a:spcBef>
              <a:spcAft>
                <a:spcPts val="2639"/>
              </a:spcAft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e Text-Objektleiste, wenn Sie Text bearbeite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2401"/>
              </a:spcBef>
              <a:spcAft>
                <a:spcPts val="2639"/>
              </a:spcAft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e Tabellen-Objektleiste, in einer Tabell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2401"/>
              </a:spcBef>
              <a:spcAft>
                <a:spcPts val="2639"/>
              </a:spcAft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e Rahmen-Objektleiste, wenn Sie Rahmen wähle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2401"/>
              </a:spcBef>
              <a:spcAft>
                <a:spcPts val="2639"/>
              </a:spcAft>
              <a:buClr>
                <a:srgbClr val="fafd00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e Numerierungs-Objektleiste, sobald erforderli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09680" y="4233960"/>
            <a:ext cx="7010280" cy="2998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14360" y="5372280"/>
            <a:ext cx="7243920" cy="3049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23720" y="3138480"/>
            <a:ext cx="8707320" cy="2905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428760" y="2009880"/>
            <a:ext cx="830592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2371680" y="76320"/>
            <a:ext cx="6315120" cy="900000"/>
          </a:xfrm>
          <a:prstGeom prst="rect">
            <a:avLst/>
          </a:prstGeom>
          <a:gradFill rotWithShape="0">
            <a:gsLst>
              <a:gs pos="0">
                <a:srgbClr val="892637"/>
              </a:gs>
              <a:gs pos="100000">
                <a:srgbClr val="e5405d"/>
              </a:gs>
            </a:gsLst>
            <a:lin ang="5400000"/>
          </a:gra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6000" spc="-1" strike="noStrike">
                <a:solidFill>
                  <a:srgbClr val="fafd00"/>
                </a:solidFill>
                <a:latin typeface="Arial"/>
                <a:ea typeface="Arial"/>
              </a:rPr>
              <a:t>Orientieru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971800" y="1295280"/>
            <a:ext cx="6095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Die kontextsensitiven Bestandteile vom StarWriter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72880" y="1454040"/>
            <a:ext cx="203508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