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07600" cy="7740650"/>
  <p:notesSz cx="7740650" cy="10007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2153E-EBC6-4BAC-8B76-622AAF88F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49160" y="2235240"/>
            <a:ext cx="8507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749160" y="4660920"/>
            <a:ext cx="8507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6ED2B-E395-4EDB-8C3F-901990B6D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49160" y="2235240"/>
            <a:ext cx="4151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08760" y="2235240"/>
            <a:ext cx="4151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749160" y="4660920"/>
            <a:ext cx="4151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08760" y="4660920"/>
            <a:ext cx="4151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6CFD1-B038-4DD5-8CE9-BD02C9314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749160" y="2235240"/>
            <a:ext cx="273924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25920" y="2235240"/>
            <a:ext cx="273924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502320" y="2235240"/>
            <a:ext cx="273924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749160" y="4660920"/>
            <a:ext cx="273924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25920" y="4660920"/>
            <a:ext cx="273924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502320" y="4660920"/>
            <a:ext cx="273924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076B7-A55B-4AEE-830F-888A58DF2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749160" y="2235240"/>
            <a:ext cx="8507520" cy="46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F0A40-85AD-401A-9F6C-3EA5675A3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49160" y="2235240"/>
            <a:ext cx="850752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276DD-FAB6-4713-8CA8-FCC677CE2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49160" y="2235240"/>
            <a:ext cx="415152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08760" y="2235240"/>
            <a:ext cx="415152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7584C-82A9-40D0-B376-7528AFAAD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83E38-1E92-49C2-BBE8-AB8F30EC5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749160" y="686880"/>
            <a:ext cx="8507520" cy="597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40E22-E37F-4F21-B3F1-0BA36BA2C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9160" y="2235240"/>
            <a:ext cx="4151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8760" y="2235240"/>
            <a:ext cx="415152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749160" y="4660920"/>
            <a:ext cx="4151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8F19D-22A7-4EB7-A00F-DC5CAB1AF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9160" y="2235240"/>
            <a:ext cx="415152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8760" y="2235240"/>
            <a:ext cx="4151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08760" y="4660920"/>
            <a:ext cx="4151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0D59E-2A08-49A5-8A82-0C55B0FC5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9160" y="2235240"/>
            <a:ext cx="4151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08760" y="2235240"/>
            <a:ext cx="4151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49160" y="4660920"/>
            <a:ext cx="8507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8A511-69CF-4A67-88CB-4A985BF14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9160" y="2235240"/>
            <a:ext cx="850752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8800" y="7051320"/>
            <a:ext cx="208620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17840" y="7051320"/>
            <a:ext cx="317016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172280" y="7051320"/>
            <a:ext cx="208440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B3DD1-57A1-4414-8DE0-1EC9FF58221F}" type="slidenum"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0520" y="0"/>
            <a:ext cx="9987120" cy="1160640"/>
          </a:xfrm>
          <a:custGeom>
            <a:avLst/>
            <a:gdLst/>
            <a:ahLst/>
            <a:rect l="l" t="t" r="r" b="b"/>
            <a:pathLst>
              <a:path w="6291" h="731">
                <a:moveTo>
                  <a:pt x="0" y="0"/>
                </a:moveTo>
                <a:lnTo>
                  <a:pt x="0" y="731"/>
                </a:lnTo>
                <a:lnTo>
                  <a:pt x="6291" y="731"/>
                </a:lnTo>
                <a:lnTo>
                  <a:pt x="6291" y="0"/>
                </a:lnTo>
                <a:close/>
              </a:path>
            </a:pathLst>
          </a:custGeom>
          <a:solidFill>
            <a:srgbClr val="00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0"/>
            <a:ext cx="1366920" cy="7738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27080" y="324000"/>
            <a:ext cx="1141200" cy="11556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3"/>
          <a:stretch/>
        </p:blipFill>
        <p:spPr>
          <a:xfrm>
            <a:off x="264960" y="7020000"/>
            <a:ext cx="981360" cy="385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360" y="0"/>
            <a:ext cx="9998280" cy="3659040"/>
          </a:xfrm>
          <a:custGeom>
            <a:avLst/>
            <a:gdLst/>
            <a:ahLst/>
            <a:rect l="l" t="t" r="r" b="b"/>
            <a:pathLst>
              <a:path w="6298" h="2305">
                <a:moveTo>
                  <a:pt x="0" y="0"/>
                </a:moveTo>
                <a:lnTo>
                  <a:pt x="0" y="2305"/>
                </a:lnTo>
                <a:lnTo>
                  <a:pt x="6298" y="2305"/>
                </a:lnTo>
                <a:lnTo>
                  <a:pt x="6298" y="0"/>
                </a:lnTo>
                <a:close/>
              </a:path>
            </a:pathLst>
          </a:custGeom>
          <a:solidFill>
            <a:srgbClr val="00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1366920" cy="7738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27080" y="324000"/>
            <a:ext cx="1141200" cy="11556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264960" y="7020000"/>
            <a:ext cx="981360" cy="3855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295280" y="1040040"/>
            <a:ext cx="8585280" cy="17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ffffff"/>
                </a:solidFill>
                <a:latin typeface="Arial"/>
              </a:rPr>
              <a:t>OS/2 Road Map to e-business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446120" y="4148280"/>
            <a:ext cx="8528040" cy="62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76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Transition Dynamics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7467480" y="5823000"/>
            <a:ext cx="1795680" cy="6094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2151000" y="5746680"/>
            <a:ext cx="1917720" cy="7430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5"/>
          <a:stretch/>
        </p:blipFill>
        <p:spPr>
          <a:xfrm>
            <a:off x="5246640" y="5419800"/>
            <a:ext cx="847800" cy="13255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6045120" y="5349960"/>
            <a:ext cx="120600" cy="13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0520" y="0"/>
            <a:ext cx="9987120" cy="1160640"/>
          </a:xfrm>
          <a:custGeom>
            <a:avLst/>
            <a:gdLst/>
            <a:ahLst/>
            <a:rect l="l" t="t" r="r" b="b"/>
            <a:pathLst>
              <a:path w="6291" h="731">
                <a:moveTo>
                  <a:pt x="0" y="0"/>
                </a:moveTo>
                <a:lnTo>
                  <a:pt x="0" y="731"/>
                </a:lnTo>
                <a:lnTo>
                  <a:pt x="6291" y="731"/>
                </a:lnTo>
                <a:lnTo>
                  <a:pt x="6291" y="0"/>
                </a:lnTo>
                <a:close/>
              </a:path>
            </a:pathLst>
          </a:custGeom>
          <a:solidFill>
            <a:srgbClr val="00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0"/>
            <a:ext cx="1366920" cy="7738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27080" y="324000"/>
            <a:ext cx="1141200" cy="11556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64960" y="7020000"/>
            <a:ext cx="981360" cy="3855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662120" y="363600"/>
            <a:ext cx="7135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Agen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950760" y="1595520"/>
            <a:ext cx="8536320" cy="41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ree Year Pla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duct and Services Plan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urchase Model Chang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utlook After Three Year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nabling Platform Independenc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ffect on OS/2 Busines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posed customer choic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20520" y="0"/>
            <a:ext cx="9987120" cy="1160640"/>
          </a:xfrm>
          <a:custGeom>
            <a:avLst/>
            <a:gdLst/>
            <a:ahLst/>
            <a:rect l="l" t="t" r="r" b="b"/>
            <a:pathLst>
              <a:path w="6291" h="731">
                <a:moveTo>
                  <a:pt x="0" y="0"/>
                </a:moveTo>
                <a:lnTo>
                  <a:pt x="0" y="731"/>
                </a:lnTo>
                <a:lnTo>
                  <a:pt x="6291" y="731"/>
                </a:lnTo>
                <a:lnTo>
                  <a:pt x="6291" y="0"/>
                </a:lnTo>
                <a:close/>
              </a:path>
            </a:pathLst>
          </a:custGeom>
          <a:solidFill>
            <a:srgbClr val="00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0"/>
            <a:ext cx="1366920" cy="7738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27080" y="324000"/>
            <a:ext cx="1141200" cy="11556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264960" y="7020000"/>
            <a:ext cx="981360" cy="3855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546200" y="5769000"/>
            <a:ext cx="8393040" cy="345960"/>
          </a:xfrm>
          <a:prstGeom prst="rect">
            <a:avLst/>
          </a:prstGeom>
          <a:gradFill rotWithShape="0">
            <a:gsLst>
              <a:gs pos="0">
                <a:srgbClr val="ff48c8"/>
              </a:gs>
              <a:gs pos="50000">
                <a:srgbClr val="ffffff"/>
              </a:gs>
              <a:gs pos="100000">
                <a:srgbClr val="ff48c8"/>
              </a:gs>
            </a:gsLst>
            <a:lin ang="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745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Hardware and Device Driver Support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546200" y="6107040"/>
            <a:ext cx="8393040" cy="344520"/>
          </a:xfrm>
          <a:prstGeom prst="rect">
            <a:avLst/>
          </a:prstGeom>
          <a:gradFill rotWithShape="0">
            <a:gsLst>
              <a:gs pos="0">
                <a:srgbClr val="ff48c8"/>
              </a:gs>
              <a:gs pos="50000">
                <a:srgbClr val="ffffff"/>
              </a:gs>
              <a:gs pos="100000">
                <a:srgbClr val="ff48c8"/>
              </a:gs>
            </a:gsLst>
            <a:lin ang="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745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Maintenance support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46200" y="6443640"/>
            <a:ext cx="8393040" cy="345960"/>
          </a:xfrm>
          <a:prstGeom prst="rect">
            <a:avLst/>
          </a:prstGeom>
          <a:gradFill rotWithShape="0">
            <a:gsLst>
              <a:gs pos="0">
                <a:srgbClr val="ff48c8"/>
              </a:gs>
              <a:gs pos="50000">
                <a:srgbClr val="ffffff"/>
              </a:gs>
              <a:gs pos="100000">
                <a:srgbClr val="ff48c8"/>
              </a:gs>
            </a:gsLst>
            <a:lin ang="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745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ervice Extension (SE) &amp; Total Content Offering (TCO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554120" y="5442120"/>
            <a:ext cx="8400960" cy="34416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745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Java and Migration Tools and Service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536840" y="5310360"/>
            <a:ext cx="8389800" cy="0"/>
          </a:xfrm>
          <a:prstGeom prst="line">
            <a:avLst/>
          </a:prstGeom>
          <a:ln w="507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508040" y="6794640"/>
            <a:ext cx="8285400" cy="758520"/>
          </a:xfrm>
          <a:prstGeom prst="rightArrow">
            <a:avLst>
              <a:gd name="adj1" fmla="val 50000"/>
              <a:gd name="adj2" fmla="val 273078"/>
            </a:avLst>
          </a:prstGeom>
          <a:gradFill rotWithShape="0">
            <a:gsLst>
              <a:gs pos="0">
                <a:srgbClr val="ffb672"/>
              </a:gs>
              <a:gs pos="50000">
                <a:srgbClr val="ffffff"/>
              </a:gs>
              <a:gs pos="100000">
                <a:srgbClr val="ffb672"/>
              </a:gs>
            </a:gsLst>
            <a:lin ang="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200480" y="1410840"/>
            <a:ext cx="0" cy="3878280"/>
          </a:xfrm>
          <a:prstGeom prst="line">
            <a:avLst/>
          </a:prstGeom>
          <a:ln w="507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6991200" y="1411200"/>
            <a:ext cx="0" cy="3881520"/>
          </a:xfrm>
          <a:prstGeom prst="line">
            <a:avLst/>
          </a:prstGeom>
          <a:ln w="507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536840" y="1392120"/>
            <a:ext cx="8389800" cy="0"/>
          </a:xfrm>
          <a:prstGeom prst="line">
            <a:avLst/>
          </a:prstGeom>
          <a:ln w="507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62120" y="363600"/>
            <a:ext cx="7135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Product and Services Pla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531800" y="1521000"/>
            <a:ext cx="2503800" cy="38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e-business enableme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Jav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rows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CP/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bSphere Appl.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D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WorkSpace On-Deman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ndows NT Client Man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SoD Server /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ot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naged flexibil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19720" y="1514520"/>
            <a:ext cx="2481120" cy="383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ff"/>
                </a:solidFill>
                <a:latin typeface="Arial"/>
              </a:rPr>
              <a:t>e-business investment protection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Jav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Brows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TCP/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WebSphere Appl.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..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ff"/>
                </a:solidFill>
                <a:latin typeface="Arial"/>
              </a:rPr>
              <a:t>Cross Platform WorkSpace On-Deman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Windows NT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Linux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248600" y="1535040"/>
            <a:ext cx="2206440" cy="32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1079ff"/>
                </a:solidFill>
                <a:latin typeface="Arial"/>
              </a:rPr>
              <a:t>Client platform independence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079ff"/>
                </a:solidFill>
                <a:latin typeface="Arial"/>
              </a:rPr>
              <a:t>Java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079ff"/>
                </a:solidFill>
                <a:latin typeface="Arial"/>
              </a:rPr>
              <a:t>Linux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079ff"/>
                </a:solidFill>
                <a:latin typeface="Arial"/>
              </a:rPr>
              <a:t>Windows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1079ff"/>
                </a:solidFill>
                <a:latin typeface="Arial"/>
              </a:rPr>
              <a:t>Server platform independenc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079ff"/>
                </a:solidFill>
                <a:latin typeface="Arial"/>
              </a:rPr>
              <a:t>Linux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079ff"/>
                </a:solidFill>
                <a:latin typeface="Arial"/>
              </a:rPr>
              <a:t>Windows NT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079ff"/>
                </a:solidFill>
                <a:latin typeface="Arial"/>
              </a:rPr>
              <a:t>Warp Server for e-busin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0520" y="0"/>
            <a:ext cx="9987120" cy="1160640"/>
          </a:xfrm>
          <a:custGeom>
            <a:avLst/>
            <a:gdLst/>
            <a:ahLst/>
            <a:rect l="l" t="t" r="r" b="b"/>
            <a:pathLst>
              <a:path w="6291" h="731">
                <a:moveTo>
                  <a:pt x="0" y="0"/>
                </a:moveTo>
                <a:lnTo>
                  <a:pt x="0" y="731"/>
                </a:lnTo>
                <a:lnTo>
                  <a:pt x="6291" y="731"/>
                </a:lnTo>
                <a:lnTo>
                  <a:pt x="6291" y="0"/>
                </a:lnTo>
                <a:close/>
              </a:path>
            </a:pathLst>
          </a:custGeom>
          <a:solidFill>
            <a:srgbClr val="00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0"/>
            <a:ext cx="1366920" cy="7738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27080" y="324000"/>
            <a:ext cx="1141200" cy="11556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264960" y="7020000"/>
            <a:ext cx="981360" cy="38556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1662120" y="363600"/>
            <a:ext cx="7135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Purchase Model Chang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90720" y="1452600"/>
            <a:ext cx="8535960" cy="63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90440" indent="-190440">
              <a:lnSpc>
                <a:spcPct val="100000"/>
              </a:lnSpc>
              <a:spcAft>
                <a:spcPts val="524"/>
              </a:spcAft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char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177840">
              <a:lnSpc>
                <a:spcPct val="100000"/>
              </a:lnSpc>
              <a:spcAft>
                <a:spcPts val="488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ava 1.1.X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177840">
              <a:lnSpc>
                <a:spcPct val="100000"/>
              </a:lnSpc>
              <a:spcAft>
                <a:spcPts val="488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municator 4.5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Aft>
                <a:spcPts val="524"/>
              </a:spcAft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ssport Advantage subscri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177840">
              <a:lnSpc>
                <a:spcPct val="100000"/>
              </a:lnSpc>
              <a:spcAft>
                <a:spcPts val="488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ava 2 and beyon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177840">
              <a:lnSpc>
                <a:spcPct val="100000"/>
              </a:lnSpc>
              <a:spcAft>
                <a:spcPts val="488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municator 5 and beyon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177840">
              <a:lnSpc>
                <a:spcPct val="100000"/>
              </a:lnSpc>
              <a:spcAft>
                <a:spcPts val="488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bSphere 3 and beyon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177840">
              <a:lnSpc>
                <a:spcPct val="100000"/>
              </a:lnSpc>
              <a:spcAft>
                <a:spcPts val="488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arp Server for e-business enhancements (TCP/IP, LDAP...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177840">
              <a:lnSpc>
                <a:spcPct val="100000"/>
              </a:lnSpc>
              <a:spcAft>
                <a:spcPts val="488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orkSpace On-Demand (cross-platform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Aft>
                <a:spcPts val="524"/>
              </a:spcAft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rvices Offer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177840">
              <a:lnSpc>
                <a:spcPct val="100000"/>
              </a:lnSpc>
              <a:spcAft>
                <a:spcPts val="488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-business transformation (cross-platform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177840">
              <a:lnSpc>
                <a:spcPct val="100000"/>
              </a:lnSpc>
              <a:spcAft>
                <a:spcPts val="488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rvice extensions, Total Content Offer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177840">
              <a:lnSpc>
                <a:spcPct val="100000"/>
              </a:lnSpc>
              <a:spcAft>
                <a:spcPts val="488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ustom enhancement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0520" y="0"/>
            <a:ext cx="9987120" cy="1160640"/>
          </a:xfrm>
          <a:custGeom>
            <a:avLst/>
            <a:gdLst/>
            <a:ahLst/>
            <a:rect l="l" t="t" r="r" b="b"/>
            <a:pathLst>
              <a:path w="6291" h="731">
                <a:moveTo>
                  <a:pt x="0" y="0"/>
                </a:moveTo>
                <a:lnTo>
                  <a:pt x="0" y="731"/>
                </a:lnTo>
                <a:lnTo>
                  <a:pt x="6291" y="731"/>
                </a:lnTo>
                <a:lnTo>
                  <a:pt x="6291" y="0"/>
                </a:lnTo>
                <a:close/>
              </a:path>
            </a:pathLst>
          </a:custGeom>
          <a:solidFill>
            <a:srgbClr val="00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0"/>
            <a:ext cx="1366920" cy="7738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27080" y="324000"/>
            <a:ext cx="1141200" cy="1155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264960" y="7020000"/>
            <a:ext cx="981360" cy="38556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622520" y="5438880"/>
            <a:ext cx="3862440" cy="1170000"/>
          </a:xfrm>
          <a:prstGeom prst="rect">
            <a:avLst/>
          </a:prstGeom>
          <a:gradFill rotWithShape="0">
            <a:gsLst>
              <a:gs pos="0">
                <a:srgbClr val="00ce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S/2   Windows NT   Linu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622520" y="4826160"/>
            <a:ext cx="3854520" cy="566640"/>
          </a:xfrm>
          <a:prstGeom prst="rect">
            <a:avLst/>
          </a:prstGeom>
          <a:gradFill rotWithShape="0">
            <a:gsLst>
              <a:gs pos="0">
                <a:srgbClr val="ffc17d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va Runtime Environ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604880" y="3032280"/>
            <a:ext cx="1251000" cy="1736640"/>
          </a:xfrm>
          <a:prstGeom prst="rect">
            <a:avLst/>
          </a:prstGeom>
          <a:gradFill rotWithShape="0">
            <a:gsLst>
              <a:gs pos="0">
                <a:srgbClr val="ffc17d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o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t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868480" y="4340160"/>
            <a:ext cx="2613240" cy="424080"/>
          </a:xfrm>
          <a:prstGeom prst="rect">
            <a:avLst/>
          </a:prstGeom>
          <a:gradFill rotWithShape="0">
            <a:gsLst>
              <a:gs pos="0">
                <a:srgbClr val="ffc17d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bSphe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970440" y="3038400"/>
            <a:ext cx="1495440" cy="1258920"/>
          </a:xfrm>
          <a:prstGeom prst="rect">
            <a:avLst/>
          </a:prstGeom>
          <a:solidFill>
            <a:srgbClr val="00efe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Busines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Logi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924520" y="5435640"/>
            <a:ext cx="3778200" cy="1168200"/>
          </a:xfrm>
          <a:prstGeom prst="rect">
            <a:avLst/>
          </a:prstGeom>
          <a:gradFill rotWithShape="0">
            <a:gsLst>
              <a:gs pos="0">
                <a:srgbClr val="00ce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S/2   Windows NT   Linu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927760" y="4827600"/>
            <a:ext cx="3786120" cy="566640"/>
          </a:xfrm>
          <a:prstGeom prst="rect">
            <a:avLst/>
          </a:prstGeom>
          <a:gradFill rotWithShape="0">
            <a:gsLst>
              <a:gs pos="0">
                <a:srgbClr val="ffc17d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va Runtime Environ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919840" y="4221000"/>
            <a:ext cx="1917720" cy="582840"/>
          </a:xfrm>
          <a:prstGeom prst="rect">
            <a:avLst/>
          </a:prstGeom>
          <a:gradFill rotWithShape="0">
            <a:gsLst>
              <a:gs pos="0">
                <a:srgbClr val="ffc17d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ows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943600" y="3040200"/>
            <a:ext cx="3728880" cy="1741320"/>
          </a:xfrm>
          <a:custGeom>
            <a:avLst/>
            <a:gdLst/>
            <a:ahLst/>
            <a:rect l="l" t="t" r="r" b="b"/>
            <a:pathLst>
              <a:path w="2349" h="1097">
                <a:moveTo>
                  <a:pt x="0" y="731"/>
                </a:moveTo>
                <a:lnTo>
                  <a:pt x="0" y="0"/>
                </a:lnTo>
                <a:lnTo>
                  <a:pt x="2349" y="0"/>
                </a:lnTo>
                <a:lnTo>
                  <a:pt x="2349" y="1097"/>
                </a:lnTo>
                <a:lnTo>
                  <a:pt x="1218" y="1097"/>
                </a:lnTo>
                <a:lnTo>
                  <a:pt x="1218" y="731"/>
                </a:lnTo>
                <a:lnTo>
                  <a:pt x="0" y="731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694560" y="3246480"/>
            <a:ext cx="2193840" cy="62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80078"/>
                </a:solidFill>
                <a:latin typeface="Arial"/>
              </a:rPr>
              <a:t>Applicatio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80078"/>
                </a:solidFill>
                <a:latin typeface="Arial"/>
              </a:rPr>
              <a:t>GUI / XML / HTM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898720" y="3063960"/>
            <a:ext cx="1046160" cy="1230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662120" y="368280"/>
            <a:ext cx="7135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Enabling Platform Independe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827440" y="3446640"/>
            <a:ext cx="1193760" cy="62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80078"/>
                </a:solidFill>
                <a:latin typeface="Arial"/>
              </a:rPr>
              <a:t>Web Sv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80078"/>
                </a:solidFill>
                <a:latin typeface="Arial"/>
              </a:rPr>
              <a:t>Logi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813320" y="1935360"/>
            <a:ext cx="76528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pplication Framework for e-busine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20520" y="0"/>
            <a:ext cx="9987120" cy="1160640"/>
          </a:xfrm>
          <a:custGeom>
            <a:avLst/>
            <a:gdLst/>
            <a:ahLst/>
            <a:rect l="l" t="t" r="r" b="b"/>
            <a:pathLst>
              <a:path w="6291" h="731">
                <a:moveTo>
                  <a:pt x="0" y="0"/>
                </a:moveTo>
                <a:lnTo>
                  <a:pt x="0" y="731"/>
                </a:lnTo>
                <a:lnTo>
                  <a:pt x="6291" y="731"/>
                </a:lnTo>
                <a:lnTo>
                  <a:pt x="6291" y="0"/>
                </a:lnTo>
                <a:close/>
              </a:path>
            </a:pathLst>
          </a:custGeom>
          <a:solidFill>
            <a:srgbClr val="00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0"/>
            <a:ext cx="1366920" cy="7738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27080" y="324000"/>
            <a:ext cx="1141200" cy="11556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264960" y="7020000"/>
            <a:ext cx="981360" cy="3855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1662120" y="363600"/>
            <a:ext cx="7135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Effect on OS/2 Busine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50760" y="1569960"/>
            <a:ext cx="9021960" cy="57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pected marketplace trend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tinued server consolid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tinued emphasis on Windows 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creasing emphasis on Linux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creasing emhasis on OS/2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me customers will migrate to other platform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dustry-wide support (incl. IBM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vailability of skills and resourc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me customers will exploit e-business on OS/2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nown stability characteristic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lete IBM software stack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20520" y="0"/>
            <a:ext cx="9987120" cy="1160640"/>
          </a:xfrm>
          <a:custGeom>
            <a:avLst/>
            <a:gdLst/>
            <a:ahLst/>
            <a:rect l="l" t="t" r="r" b="b"/>
            <a:pathLst>
              <a:path w="6291" h="731">
                <a:moveTo>
                  <a:pt x="0" y="0"/>
                </a:moveTo>
                <a:lnTo>
                  <a:pt x="0" y="731"/>
                </a:lnTo>
                <a:lnTo>
                  <a:pt x="6291" y="731"/>
                </a:lnTo>
                <a:lnTo>
                  <a:pt x="6291" y="0"/>
                </a:lnTo>
                <a:close/>
              </a:path>
            </a:pathLst>
          </a:custGeom>
          <a:solidFill>
            <a:srgbClr val="00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0"/>
            <a:ext cx="1366920" cy="7738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27080" y="324000"/>
            <a:ext cx="1141200" cy="11556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264960" y="7020000"/>
            <a:ext cx="981360" cy="38556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1662120" y="368280"/>
            <a:ext cx="7135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Customer Choices In Three Yea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950760" y="1477800"/>
            <a:ext cx="8536320" cy="62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tinue e-business on OS/2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ssport Advantage subscrip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-business exploitation servic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ice will rise as volume declin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ve to e-business on other platform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T, Linux primary choices on Int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-business exploitation servic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roader hardware/software choic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inux operating system is "free"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ve to proprietary model on other platform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rvices engagements onl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st expensive and disruptiv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20520" y="0"/>
            <a:ext cx="9987120" cy="1160640"/>
          </a:xfrm>
          <a:custGeom>
            <a:avLst/>
            <a:gdLst/>
            <a:ahLst/>
            <a:rect l="l" t="t" r="r" b="b"/>
            <a:pathLst>
              <a:path w="6291" h="731">
                <a:moveTo>
                  <a:pt x="0" y="0"/>
                </a:moveTo>
                <a:lnTo>
                  <a:pt x="0" y="731"/>
                </a:lnTo>
                <a:lnTo>
                  <a:pt x="6291" y="731"/>
                </a:lnTo>
                <a:lnTo>
                  <a:pt x="6291" y="0"/>
                </a:lnTo>
                <a:close/>
              </a:path>
            </a:pathLst>
          </a:custGeom>
          <a:solidFill>
            <a:srgbClr val="00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0"/>
            <a:ext cx="1366920" cy="7738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27080" y="324000"/>
            <a:ext cx="1141200" cy="11556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264960" y="7020000"/>
            <a:ext cx="981360" cy="38556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1662120" y="363600"/>
            <a:ext cx="7135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950760" y="1622520"/>
            <a:ext cx="8536320" cy="538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BM will deliver e-business enablement for OS/2 for at least three year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ssport Advantage subscription is required to make the transform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BM will provide e-business transformation services for OS/2 and other platform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pplication framework for e-business and IBM middleware will enable platform independenc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ice of e-business exploitation on OS/2 will rise as volume declin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BM will fundamentally support customer choic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